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13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A45D-2265-44C4-BC3E-F5CB9013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388F-11F2-4A93-8226-22E9FA8C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69923-EDFD-463E-AAC1-D93DB6A1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ED81F-DB7F-4906-832E-D751A41F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65390-A7D4-4DA1-BEA3-930F73FA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A0FEE-79E7-4671-A525-85CE546A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20405-49C0-4BEA-94CF-83C92EEB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C2AFF-24CD-4FEB-8314-B778036E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D82AC-27D9-48A5-9D92-06799237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96672-DD89-4144-9EC4-543A226F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67C2B-E0AE-4DF5-B8AD-21DB5EF6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DC9B3-D2D0-4251-8D7D-258134B9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A913-7EF2-45BF-93D1-DA2172A3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ED8C0-BA24-4D33-AAC8-A8FCCAAB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591D9-562C-435B-BAF4-18A964E8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BA8D9-C616-4D38-A427-CD6BC95F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1AB9D-F904-4B39-8205-7808492E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EA3C6-357E-40BA-B246-E7A9F57B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2066C-F006-4BDC-9CB0-752C97FD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B1609-0DD7-419D-B0DC-7CEDF4D3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E478D-9C41-401B-96E9-1FC506E8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6291A-5C67-4673-8421-9A199C69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7BD3A-70FF-45AF-AFD1-BA6B9F65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A16-768D-48E7-A08A-1561B885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49186-1D33-473B-B35D-7280EA9F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E0716-8B1D-4ACE-B272-1AF601FF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BB05F-2E37-4783-900C-76ECD470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6637E-3430-41F5-A267-8A3198C0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535CA-0B52-4C4D-845D-5740E977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AAAC6-DEC8-4099-AE62-41A61AD9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EABC8-1B85-4450-92C4-50123646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37267-0C61-4174-9F9D-B9CDE27F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F801F-E5B7-41E7-B2E6-7B503D5A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3F02E-6FB4-4CFD-B698-444FA61F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FD21-797B-4AD3-A733-091354F0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26F61-A32D-4CFE-B546-6CEB6F64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7A387-0424-4D69-937A-B00FCC96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9F4D7-7145-402A-A61A-ABE7D85D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B3C7D-4EF9-49EE-BB17-FAB21395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42A2E-1E95-4F27-9A1A-A83AC8A4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7D337-3DD0-46B6-A41D-2FFDF012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3BBEE-BE95-4846-B97A-3CE0295D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49113-32DD-4376-95E5-F361F3FD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E0B9A-E6BE-4908-88E3-B623FE6F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800EE-F571-495C-8B12-4839D58D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BD48-7201-42F0-84CF-F1FE2F21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6D685-9AEF-4227-BD9C-D2A79E62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A2BB6-BEB5-43C7-9289-77E10EC0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32CD1-DFFF-462A-9766-90AC3B48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E30AC-2AC1-440F-9704-BA00BBF4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33AF1-96AA-46AD-8396-67D66CEE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0ACF-77E8-455B-8B4E-0EA4960B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1A3E-EF2E-4F35-B9B0-CA144EEB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910C-2893-4498-BA86-0D36D4F8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B14B-77C1-4FFF-B752-F4AD79A6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06C0-E1D6-4821-85B4-6BD19E2D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5E8-92C0-44B7-ADA3-A5919934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8AB6-75BA-4B47-8C93-73C3065E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1B75-3B18-4198-AE97-B6A44CDF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2F81-AFD7-4B57-B173-37D4148A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68F5-B0FA-46A6-AA36-3736EC23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7E23-DD1E-427F-AE4F-34BAFF52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DBC2-1A2D-4280-BD3D-F4B86529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9F801-19DD-471E-BEE8-92B9BB89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FA6E4-C217-406F-99C1-D12F6E03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0380-C29B-4BBD-9665-7808FA82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280C6-3FB3-4DA6-9A2C-F6E2A1AE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F413-AD38-439D-8CB6-9FF56579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A2E14-1C0F-4FE5-A9CB-7B91C9A2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518BF-4828-413E-93A1-BFDD6A8F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6AF58-A34F-4EA1-A878-D2CBEE64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47CC4-89B1-479B-962B-42DB64E9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83DD6-5754-494E-9A47-5E1CD09F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67EF9-232E-455F-AA53-A665C7E9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054D1-9F6F-469B-8FE8-01F50044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79BD1-FA15-467A-9706-B8A04F27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BF2DB-B285-4F9C-AF91-6201EDFB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508A6-E2B2-4F93-BEDD-A2FE3568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BF7-9582-4D53-952D-9590A556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30290-5664-4C0A-944C-62E187D1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4F0E-87BC-4A44-BE67-E3E40D5B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207E3-2F66-42BC-B4D0-7BB0C33B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035E3-44BE-4A82-91BD-32EEBA2C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6A02F-2265-45F1-8BB5-E9DF194C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ABFEE-2EFD-4DD2-B18F-6B4927AE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2BB95-9FEF-4C32-84E8-2FA753B5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813A2-DE3A-46F7-8C79-0FB2FF9F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566CF-77A0-417B-B419-C4A95E9C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4B72D-DD56-4D31-8E09-4C83F720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D95-CF1F-40A0-BEDD-FF7C9E48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DCEE2-1C36-4868-9831-8604DBF0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81D4B-8A69-4858-BA3A-B2C6923F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52158-6519-4113-9960-7F591D37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DD664-9C48-4E00-AB0C-D15016F5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3AD07-B88A-40CC-AD45-95A83684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19922-DE95-46E1-A603-46F1AED5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E9D39-D92E-4B3F-A7EE-6976729E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440A1-EC7D-419C-8FAF-025290D4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FA934-1839-477B-9D27-9D59A306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9B5B6-30D2-4B5C-AE67-CA9A1ECE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967-FF5F-4B70-9686-3BB33AE6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52760-DB74-4C42-AC3B-CAB2A622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976E3-AF3D-44C9-98EE-35D11F0A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5C2BB-8B12-4998-91BD-A5BBF15B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3E139-7906-4D4E-94C3-9AE0BEBA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F11F1-FEF8-4C29-9515-BF775B1C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E9C88-31A7-4969-A51F-E5DB48A8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490DC-794C-4B4F-A735-0F213675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069C6-4FAE-45A9-8E78-CD1F4329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8661F-C655-4F60-A62E-D566058F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59D58-567B-47EC-A628-B6D08DA4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4CA-CD12-4299-8677-EA3630C4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40BC9-A57D-4717-AA72-C59398C3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F9E27-4235-46D8-8CEA-0C35944F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BD823-2013-447F-B3DA-56FCB754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6FF60-0B53-48A1-BCB1-190B9BD3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1D174-C775-4DDE-950D-553106B4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1E9ED-4F0A-4767-AADC-04683450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9A455-4694-4929-8102-A1222339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FC42C-7D7F-4C5E-9E32-DEEBDB4D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05A03-7760-40B0-B301-84D846C1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04A84-B73C-4754-ACB4-1A429474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A35-A68D-4E2C-9B81-8F5C1D86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840DA-F446-44C0-BF7D-2A4592B1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7291A-5F52-439B-8F92-763BFD03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F45F1-AF48-45C0-A40B-79751A87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B1734-23AB-42CB-932C-F9F406466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17735-1B0E-49CC-8025-8A16BE52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7A131-A4FC-4164-AB9E-ADEE7B09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E57D9-CE7B-492B-9B4F-918BA160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23FA6-68D5-49A7-BF39-19D2E479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B9192-F97A-4FE3-80AD-B4A0C494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F91C2-05E1-4743-9DF4-9C70B991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1EF-4F11-41A9-84F7-E0E7BF0E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570B7-81CC-40E4-9C38-25B100A8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317A4-CE50-4644-B3B1-459F5D29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B2AD8-3FCA-4F62-A28E-138A5D42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2B94C-F52B-427A-A5B0-DD89B6A0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659A3-100F-46D3-A231-7C98AE38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A7584-A7CB-42F9-8520-5A36C50E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D8897-7B06-4590-81BC-2B5D921A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279A2-3220-4B4C-B79A-B84D55C8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0910F-5930-4883-9111-8D170D2B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A80D1-2C11-4A47-939A-E5D96442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440B-FFFF-4C19-9574-D596BEBA3E3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BE64-7C09-4227-9C83-07128771B39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6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6210-7867-44A8-9544-597B04523C3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6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2D4F-2CF6-43AF-BDDB-D90962E208F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3CF6-DA2E-4289-9EEA-1DEBD83FB07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lika 6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6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7167-8A75-4DAA-A168-0C99633E1C8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6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B689-D07C-4B46-A889-810FB185AEA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377B-6BDC-40E3-9099-A8F50C2F1A3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6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6BF6-5754-4341-BC63-49736191017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6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105E-FD2E-4A83-BACC-5B2DD00EAF2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6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0AD4-2347-4807-AD9B-3EDE6D94BB6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1260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17FB-AFDD-455E-B1DD-FBE80E3D96E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4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4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4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4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Ra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5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avljate li rad nad torbom, kada nosite torbu na leđima po vodoravnom put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avljate li rad nad ormarom, kada ga gurate po vodoravnoj podloz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avljate li rad nad kantom i vodom, noseći kantu vode u ruci po vodoravnoj podloz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63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Kolika je gravitacijska energija iznad Zemljine površin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dignemo li neko tijelo mase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na visinu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svladavat ćemo njegovu težinu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m ∙ g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odnosno djelovati jednakom silom prema g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d će b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3"/>
          <a:stretch/>
        </p:blipFill>
        <p:spPr>
          <a:xfrm>
            <a:off x="3492360" y="4292640"/>
            <a:ext cx="1619280" cy="47628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7" descr=""/>
          <p:cNvPicPr/>
          <p:nvPr/>
        </p:nvPicPr>
        <p:blipFill>
          <a:blip r:embed="rId4"/>
          <a:stretch/>
        </p:blipFill>
        <p:spPr>
          <a:xfrm>
            <a:off x="3203640" y="5013360"/>
            <a:ext cx="2276280" cy="47628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0" y="98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avljeni rad je jednak promjeni energi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energija tijela na površini Zeml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g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= energija tijela na visini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ko je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hr-HR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= 0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W = E</a:t>
            </a:r>
            <a:r>
              <a:rPr b="0" i="1" lang="hr-HR" sz="3200" spc="-1" strike="noStrike" baseline="-25000">
                <a:solidFill>
                  <a:srgbClr val="000000"/>
                </a:solidFill>
                <a:latin typeface="Calibri"/>
              </a:rPr>
              <a:t>g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, vrijed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0" descr=""/>
          <p:cNvPicPr/>
          <p:nvPr/>
        </p:nvPicPr>
        <p:blipFill>
          <a:blip r:embed="rId3"/>
          <a:stretch/>
        </p:blipFill>
        <p:spPr>
          <a:xfrm>
            <a:off x="3419640" y="2421000"/>
            <a:ext cx="1981080" cy="52380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" descr=""/>
          <p:cNvPicPr/>
          <p:nvPr/>
        </p:nvPicPr>
        <p:blipFill>
          <a:blip r:embed="rId4"/>
          <a:stretch/>
        </p:blipFill>
        <p:spPr>
          <a:xfrm>
            <a:off x="3708360" y="4384800"/>
            <a:ext cx="2967120" cy="69984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98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Gravitacijska energija tijela jednaka je umnošku njegove težine i visine iznad tla na kojoj se tijelo nalaz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mjer: Koliku gravitacijsku energiju ima vrabac mase 30 g na drvetu visokom 12 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24000" y="718920"/>
            <a:ext cx="822960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1. O čemu ovisi obavljeni ra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2. Dinamometrom jednoliko vučete tijelo 0.8m po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vodoravnu stolu i očitate stalnu silu od 5N. Kolik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se rad obavlja? Je li se promijenila energija tijela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oje su se promjene energije pritom dogodil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3. Za koliko se promijeni energija tijela mase 5k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oje podignete 3m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57" name="Slika 1" descr=""/>
          <p:cNvPicPr/>
          <p:nvPr/>
        </p:nvPicPr>
        <p:blipFill>
          <a:blip r:embed="rId5"/>
          <a:stretch/>
        </p:blipFill>
        <p:spPr>
          <a:xfrm>
            <a:off x="324000" y="90792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178920" y="347760"/>
            <a:ext cx="8496360" cy="58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4. Koliko kinetičke energije treba dati lopti mas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0.5kg da se podigne 3m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5.  Čovjek mase 70kg popne se s mjesta nadmorsk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visine 100m na planinu visoku 1000m. Za kolik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se promijenila njegova gravitacijska energij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6.  Na dlan položite uteg mase 1kg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U kojem smjeru i koliko morate pomaknuti ruku da utegu povećate gravitacijsku energiju za 1J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oliki su rad pritom obavili mišići ruk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60" name="Slika 1" descr=""/>
          <p:cNvPicPr/>
          <p:nvPr/>
        </p:nvPicPr>
        <p:blipFill>
          <a:blip r:embed="rId5"/>
          <a:stretch/>
        </p:blipFill>
        <p:spPr>
          <a:xfrm>
            <a:off x="179280" y="601560"/>
            <a:ext cx="107496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53880" y="126828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rbu s knjigama podižete s poda na st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u silu pritom savladav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koji se oblik energije pretvorila vaša energija kada ste podizali torb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avljeni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rad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jednak je umnošku sile i puta na kojemu sila djeluj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d = sila · p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Ako je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W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nak za rad,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znak za silu a,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za p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W = F · s.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vrštavanjem sile i puta u jednadžbu rada izlazi nam kao mjerna jedinica njutn ∙ metar (Nm). Umjesto toga, uvedena je mjerna jedinica rada pod nazivom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džul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(znak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d obavljate kada na tijelo djelujet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silom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duž nekog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ut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avljanjem rada jedan oblik energije pretvarate u drug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bavljeni rad jednak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omjeni energije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toga promjenu energije računamo preko obavljenoga rad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E = 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nergiju iskazujemo istom mjernom jedinicom kao i rad, džul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uteg mase 1kg ovjesite o dinamometar i podignite ga 1m. Izmjerena sila koju svladavate jest težina utega G=10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d obavljen pri podizanju utega na visinu 1m 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6" name="Slika 1" descr=""/>
          <p:cNvPicPr/>
          <p:nvPr/>
        </p:nvPicPr>
        <p:blipFill>
          <a:blip r:embed="rId4"/>
          <a:stretch/>
        </p:blipFill>
        <p:spPr>
          <a:xfrm>
            <a:off x="3030480" y="3860640"/>
            <a:ext cx="314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539280" y="981000"/>
            <a:ext cx="8147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: uteg mase 1 kg  povlačite dinamometrom po stolu 1m.  S pomoću dinamometra izmjerite silu trenja. Neka je izmjerena sila trenja 2.5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d obavljen povlačenjem utega po stolu 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19" name="Slika 1" descr=""/>
          <p:cNvPicPr/>
          <p:nvPr/>
        </p:nvPicPr>
        <p:blipFill>
          <a:blip r:embed="rId4"/>
          <a:stretch/>
        </p:blipFill>
        <p:spPr>
          <a:xfrm>
            <a:off x="2286000" y="3789360"/>
            <a:ext cx="394164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like su pretvorbe energije u oba primjer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izanje uteg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ad:  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ΔE = W = E</a:t>
            </a:r>
            <a:r>
              <a:rPr b="0" i="1" lang="pl-PL" sz="3200" spc="-1" strike="noStrike" baseline="-25000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= 10 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1" name="Group 6"/>
          <p:cNvGrpSpPr/>
          <p:nvPr/>
        </p:nvGrpSpPr>
        <p:grpSpPr>
          <a:xfrm>
            <a:off x="1258920" y="3500280"/>
            <a:ext cx="6919920" cy="1241640"/>
            <a:chOff x="1258920" y="3500280"/>
            <a:chExt cx="6919920" cy="1241640"/>
          </a:xfrm>
        </p:grpSpPr>
        <p:sp>
          <p:nvSpPr>
            <p:cNvPr id="522" name="TextBox 3"/>
            <p:cNvSpPr/>
            <p:nvPr/>
          </p:nvSpPr>
          <p:spPr>
            <a:xfrm>
              <a:off x="1258920" y="3500280"/>
              <a:ext cx="2433600" cy="1191240"/>
            </a:xfrm>
            <a:prstGeom prst="rect">
              <a:avLst/>
            </a:prstGeom>
            <a:gradFill rotWithShape="0">
              <a:gsLst>
                <a:gs pos="0">
                  <a:srgbClr val="9ab5e4"/>
                </a:gs>
                <a:gs pos="100000">
                  <a:srgbClr val="e1e8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Calibri"/>
                </a:rPr>
                <a:t>Dio kemijske energije mišića, </a:t>
              </a:r>
              <a:r>
                <a:rPr b="0" lang="pl-PL" sz="2400" spc="-1" strike="noStrike">
                  <a:solidFill>
                    <a:srgbClr val="000000"/>
                  </a:solidFill>
                  <a:latin typeface="Calibri"/>
                </a:rPr>
                <a:t>Δ</a:t>
              </a:r>
              <a:r>
                <a:rPr b="0" i="1" lang="pl-PL" sz="24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1" lang="hr-HR" sz="2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ight Arrow 4"/>
            <p:cNvSpPr/>
            <p:nvPr/>
          </p:nvSpPr>
          <p:spPr>
            <a:xfrm>
              <a:off x="3922560" y="3715920"/>
              <a:ext cx="1584360" cy="431640"/>
            </a:xfrm>
            <a:prstGeom prst="right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5"/>
            <p:cNvSpPr/>
            <p:nvPr/>
          </p:nvSpPr>
          <p:spPr>
            <a:xfrm>
              <a:off x="5651280" y="3500280"/>
              <a:ext cx="2527560" cy="124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Gravitacijska energija utega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</a:t>
              </a:r>
              <a:r>
                <a:rPr b="0" i="1" lang="pl-PL" sz="24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5" name="Slika 3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vlačenje uteg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ΔE = W = E</a:t>
            </a:r>
            <a:r>
              <a:rPr b="0" i="1" lang="pl-PL" sz="32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= 2,5 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 fizici se rad obavlja pri pomicanju tijela kada na njega djeluje sila u smjeru pu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1252440" y="2565360"/>
            <a:ext cx="6919920" cy="1607400"/>
            <a:chOff x="1252440" y="2565360"/>
            <a:chExt cx="6919920" cy="1607400"/>
          </a:xfrm>
        </p:grpSpPr>
        <p:sp>
          <p:nvSpPr>
            <p:cNvPr id="528" name="TextBox 4"/>
            <p:cNvSpPr/>
            <p:nvPr/>
          </p:nvSpPr>
          <p:spPr>
            <a:xfrm>
              <a:off x="1252440" y="2565360"/>
              <a:ext cx="2433600" cy="1191240"/>
            </a:xfrm>
            <a:prstGeom prst="rect">
              <a:avLst/>
            </a:prstGeom>
            <a:gradFill rotWithShape="0">
              <a:gsLst>
                <a:gs pos="0">
                  <a:srgbClr val="9ab5e4"/>
                </a:gs>
                <a:gs pos="100000">
                  <a:srgbClr val="e1e8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Calibri"/>
                </a:rPr>
                <a:t>Dio kemijske energije mišića, </a:t>
              </a:r>
              <a:r>
                <a:rPr b="0" lang="pl-PL" sz="2400" spc="-1" strike="noStrike">
                  <a:solidFill>
                    <a:srgbClr val="000000"/>
                  </a:solidFill>
                  <a:latin typeface="Calibri"/>
                </a:rPr>
                <a:t>Δ</a:t>
              </a:r>
              <a:r>
                <a:rPr b="0" i="1" lang="pl-PL" sz="24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1" lang="hr-HR" sz="24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ight Arrow 5"/>
            <p:cNvSpPr/>
            <p:nvPr/>
          </p:nvSpPr>
          <p:spPr>
            <a:xfrm>
              <a:off x="3916080" y="2781000"/>
              <a:ext cx="1584360" cy="431640"/>
            </a:xfrm>
            <a:prstGeom prst="rightArrow">
              <a:avLst>
                <a:gd name="adj1" fmla="val 50000"/>
                <a:gd name="adj2" fmla="val 50062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6"/>
            <p:cNvSpPr/>
            <p:nvPr/>
          </p:nvSpPr>
          <p:spPr>
            <a:xfrm>
              <a:off x="5644800" y="2565360"/>
              <a:ext cx="2527560" cy="1607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nutarnja energija utega i podlog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</a:t>
              </a:r>
              <a:r>
                <a:rPr b="0" i="1" lang="pl-PL" sz="24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1" name="Slika 3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3T18:56:42Z</dcterms:created>
  <dc:creator>Mladen Vidović</dc:creator>
  <dc:description/>
  <dc:language>en-US</dc:language>
  <cp:lastModifiedBy>MArina Dumančić</cp:lastModifiedBy>
  <dcterms:modified xsi:type="dcterms:W3CDTF">2019-09-14T14:32:19Z</dcterms:modified>
  <cp:revision>20</cp:revision>
  <dc:subject/>
  <dc:title>Rad</dc:title>
</cp:coreProperties>
</file>